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348-1C50-4108-A1EA-1A42262E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56D-6DBB-4A42-A934-167EE095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5DF-6888-40E5-BB35-3B204E73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E96-0238-46BE-B1ED-7A026EA9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804D-5B08-4F1D-84D7-6874A636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9FB1-DFBD-460E-90CE-ED138ED2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D751-F096-412F-A7A1-31227392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D2A9-E89B-4004-8E86-F338F39E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30D4-FFAB-434B-B3C0-E17C14BB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3C8D-6981-4E01-8262-C36FB0D6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2034-B352-4CEB-9E02-CDF9AE8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05E-F12C-4781-969F-D781DC35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BD5A-FD89-4711-B019-CF57ACDA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61E1-EA29-4E31-8E08-BDA7D65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689D-9A03-4A31-9F8A-6001730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E23B-32BD-46A0-AF19-C2815D88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2728-1CE6-4197-AC58-05E215AE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884-C461-4696-B968-EC7CF117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BC9-01FC-4CBF-A76B-3E13047C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6B9-71A0-4241-9013-383C0BB2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8B9-F8DA-4F6B-8309-ACFE9325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D72-6A2E-4CD1-9B9B-D43E1C23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C38-417D-4A64-91A0-2EC2806C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20C-4B64-453C-AAC3-68CA451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81160"/>
            <a:ext cx="190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3752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pital Foreign Language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525360"/>
            <a:ext cx="5871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56C8-9746-448D-8918-3DD0CDBF5EC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67AE-B6BA-45A3-ADCB-895CEE50F99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ssessing Listening Comprehens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apFLP Listening/Speaking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Sacramento, C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ed Language - List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?: comprehends non-sympathetic 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: informal texts, some form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: concrete, factual topics (external environme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type: paragraphs and strings of paragrap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3A5-B1AB-4B28-9846-0E112DF5E0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ening text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en to “Secret of a Perfect Soufflé” again, noting whether the “text” i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ulai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rea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lan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with a part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 with th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375-35AD-4ACD-9C3A-9D2FEB9593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ening activity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“prompts” list to analyze the “Soufflé” comprehension questions according to language r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with a part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 with th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9D6-B4DA-4044-9C87-1DEE0DFA7D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ening prompt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your idea for a listening activity – either text-based or extension – and the list of prompt starters, create prompts f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ulai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rea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lan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anguage rating lev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BB6-2D0A-4E58-9276-AE047FACDD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FLP Assessment Progra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room Oral Competency Interview (COC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room Writing Competency Assessment (CW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room Receptive Competency Matrix (CRC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E68-883A-4BC1-8BE2-C87AFCAA9F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sessment Tr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-day teacher training semin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language learner proficiency lev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ze “text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ce assess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7E7-213E-4A6E-9CF8-4827D45D72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nguage Learner Proficien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iciency is achieved at differing r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ratings (CA Framework align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ic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ned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nded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AB1-E180-4E75-AB96-FCAE3727AC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ulaic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s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emorized words, phrases or sentences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(formul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D56-71B0-4CA7-ABD1-0A8A760143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ulaic Language - List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?: comprehends highly sympathetic 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: highly predictable tex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: discrete elements of daily life focusing on the se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type: discrete words and phr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135-A9D0-425F-8AD7-39C37443C5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ed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s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verall meaning, key ideas, and some supporting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A82-F489-46F8-808A-48B58B3DF6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ed Language - List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?: comprehends sympathetic 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: transactional, interpersonal, tex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: topics related to self and immediate enviro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type: sentences and strings of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A4B-8AFC-4F88-BD74-6F72B17355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ed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s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ain ideas and most supporting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2BE-101C-453B-8331-458CF5A3AD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3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0:28:49Z</dcterms:created>
  <dc:creator>Christine Lanphere</dc:creator>
  <dc:description/>
  <dc:language>en-US</dc:language>
  <cp:lastModifiedBy>Christine Lanphere</cp:lastModifiedBy>
  <dcterms:modified xsi:type="dcterms:W3CDTF">2008-02-22T05:49:32Z</dcterms:modified>
  <cp:revision>21</cp:revision>
  <dc:subject/>
  <dc:title>Assessing Listening Comprehension</dc:title>
</cp:coreProperties>
</file>